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11B-5410-4BB2-BC02-1F6C16F3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6BB-5839-467F-9876-73AEF615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B63-40FB-46E7-BFBB-B5BDF0A4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B3E-BB94-4E90-8913-BB3595D8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A7F-1E64-461E-9218-EEDE815A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ED9-F4F9-451A-8842-04A71051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5A0-2004-45F2-99C7-C7AC7E84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7AB-F5EC-4308-AC7C-7664110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981-4B7D-4FED-85E3-7EA9E6D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B3D-9B69-41C7-92F3-BA24C64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11A-F997-4079-A32C-AB52020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AB7-1F37-46FD-8711-0A6FD62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A68-08A1-44F4-AFB4-744216B1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Lumea piticilor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e pentru cei 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484360" cy="266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02436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mea copilări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00120" y="165420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89120" y="4121280"/>
            <a:ext cx="1573200" cy="182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53160" y="4280040"/>
            <a:ext cx="1827000" cy="150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3:45Z</dcterms:created>
  <dc:creator>AS</dc:creator>
  <dc:description/>
  <dc:language>en-US</dc:language>
  <cp:lastModifiedBy>AS</cp:lastModifiedBy>
  <dcterms:modified xsi:type="dcterms:W3CDTF">2010-01-07T19:24:33Z</dcterms:modified>
  <cp:revision>4</cp:revision>
  <dc:subject/>
  <dc:title>Lumea piticilor …</dc:title>
</cp:coreProperties>
</file>